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981-871D-4185-83E0-FE18B75E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199-BA3D-41A3-8F9D-50185C5E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408-A96C-47B7-9A70-DC0D2874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0C5-889A-473D-AE7C-42442D64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842-587C-407E-91BE-BCBE5D45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589-12B4-45E4-8E77-51391A3B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FC6-6682-4ABA-A3C7-B65E17D5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AA2-13B5-4164-AF48-DE58A488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F24-ACFF-412A-9221-40F8B8A2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359-A088-445C-88C7-6279867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781-A79C-489E-A44C-06FA1F6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B17-A4D2-4E44-A61C-CF1E372A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263-D359-4BD4-9D0C-D7578061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8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k nám zaví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ov deň k nám zaví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ies pokoj do sŕdc vli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zdroju živej vody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e nás Bož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sľubom je nový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c hriech z raja vyhnal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zvesťou tej rad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nám Pán dá z 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lažuje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iu dáva nový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statým síl obnov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údiacich zve k domov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koľvek chce, prija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tcovské to pozva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áť sa domov, dieťa vr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d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pokoj chcem ti d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24:07Z</dcterms:modified>
  <cp:revision>22</cp:revision>
  <dc:subject/>
  <dc:title>Je veľký náš Pán, on slávy je Kráľ Nech do všetkých strán  spev vrúcnych znie chvál.</dc:title>
</cp:coreProperties>
</file>